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D1D3-D78D-4BE7-9F3B-D4BF311D1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DCEC-6794-4FE2-95C9-9E3349202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26F7-10A7-44AE-AF27-36BB009A8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D53F-5F50-44E4-92AA-B2B9170A9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49BC0-217F-4482-84E8-E6BF857EC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1DB03-1B4E-4129-99F9-EABAFC4A2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1A969-0926-4DCF-A188-9E517A2F9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4B32D-4845-4FCB-87DD-731158E8C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40D1B-77FD-442B-B3B0-0D9FF50DF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23E36-5C05-4572-A020-7430BAA9F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7E911-38CA-4826-86CD-4A4DEA10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9666-3ED6-4CBD-8C36-16D0DEA5B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BB8FF-C93B-46FC-87A0-C1017A83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5434A-7D89-4E45-BB39-F1DF92B1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B0304-4231-417A-9065-49CF146FF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671B1-BB58-435A-91DD-35DEFB235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45C9D-B1E7-4001-B1A9-8D68044DF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51A8-6A04-4C99-ADDD-71B7B9C31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F744-32A7-422A-BA88-3237D7591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C08F-CECA-404F-93FB-DD1D8CB9A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C470-D123-4C49-8366-DCC602667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C9DC-3D15-40AC-98A4-CEE171DE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6EF1-D7CB-4AC5-9D8B-1D9245FE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AC0F-C707-4939-92FF-1E0584EF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51D5E-5F37-4608-A2B6-3F88E979D8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6A320-B595-4485-95E3-D4F9C39475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6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52000" y="404640"/>
            <a:ext cx="883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ОРГАНИЗАЦИОННЫЕ ФОРМЫ ТОРГОВ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26920" y="1700280"/>
            <a:ext cx="1965600" cy="1225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900000" y="3429000"/>
            <a:ext cx="2592360" cy="1720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3492360" y="1341360"/>
            <a:ext cx="1855800" cy="24717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5724360" y="1557360"/>
            <a:ext cx="2382840" cy="17874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5867280" y="3789360"/>
            <a:ext cx="1800360" cy="1347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111720" y="5950080"/>
            <a:ext cx="2799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УЧИТЕЛЬ ЭКОНОМИ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МОУ НОВОСЁЛКОВСКАЯ СОШ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ГУЛЯЕВ А.Ф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476280"/>
            <a:ext cx="868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ТОРГОВЫ АВТОМАТЫ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КРУГЛОСУТОЧНАЯ РАБОТА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ТСУТСТВИЕ ПЕРСОНА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484360" y="1700280"/>
            <a:ext cx="4216320" cy="42163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0" y="1700280"/>
            <a:ext cx="2892600" cy="42228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6286680" y="1700280"/>
            <a:ext cx="2857320" cy="42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79280" y="476280"/>
            <a:ext cx="868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КАТАЛОГ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ФОТОГРАФИЯ ТОВАРА И ЕГО ОПИС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50920" y="3357720"/>
            <a:ext cx="2736720" cy="3168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3203640" y="1125360"/>
            <a:ext cx="2808360" cy="31687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6156360" y="3284640"/>
            <a:ext cx="270180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9280" y="476280"/>
            <a:ext cx="868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ИНТЕРНЕТ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92720" y="333360"/>
            <a:ext cx="3095640" cy="18716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627280" y="549360"/>
            <a:ext cx="1944720" cy="288720"/>
          </a:xfrm>
          <a:custGeom>
            <a:avLst/>
            <a:gdLst>
              <a:gd name="textAreaLeft" fmla="*/ 243000 w 1944720"/>
              <a:gd name="textAreaRight" fmla="*/ 1701720 w 194472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4000" y="2565360"/>
            <a:ext cx="868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ПОЧТА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56000" y="2637000"/>
            <a:ext cx="1944720" cy="288720"/>
          </a:xfrm>
          <a:custGeom>
            <a:avLst/>
            <a:gdLst>
              <a:gd name="textAreaLeft" fmla="*/ 243000 w 1944720"/>
              <a:gd name="textAreaRight" fmla="*/ 1701720 w 194472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5292720" y="2492280"/>
            <a:ext cx="3095640" cy="20163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08000" y="4653000"/>
            <a:ext cx="868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ТЕЛЕВИДЕНИЕ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700360" y="4724280"/>
            <a:ext cx="1944720" cy="289080"/>
          </a:xfrm>
          <a:custGeom>
            <a:avLst/>
            <a:gdLst>
              <a:gd name="textAreaLeft" fmla="*/ 243000 w 1944720"/>
              <a:gd name="textAreaRight" fmla="*/ 1701720 w 194472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5292720" y="4797360"/>
            <a:ext cx="3095640" cy="18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404640"/>
            <a:ext cx="9142920" cy="5110920"/>
            <a:chOff x="0" y="404640"/>
            <a:chExt cx="9142920" cy="5110920"/>
          </a:xfrm>
        </p:grpSpPr>
        <p:cxnSp>
          <p:nvCxnSpPr>
            <p:cNvPr id="90" name="_s6173"/>
            <p:cNvCxnSpPr>
              <a:stCxn id="91" idx="1"/>
              <a:endCxn id="92" idx="2"/>
            </p:cNvCxnSpPr>
            <p:nvPr/>
          </p:nvCxnSpPr>
          <p:spPr>
            <a:xfrm rot="10800000">
              <a:off x="4570920" y="1681560"/>
              <a:ext cx="653760" cy="3195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3" name="_s6171"/>
            <p:cNvCxnSpPr>
              <a:stCxn id="94" idx="3"/>
              <a:endCxn id="92" idx="2"/>
            </p:cNvCxnSpPr>
            <p:nvPr/>
          </p:nvCxnSpPr>
          <p:spPr>
            <a:xfrm flipV="1">
              <a:off x="3918240" y="1681560"/>
              <a:ext cx="653760" cy="3195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5" name="_s6170"/>
            <p:cNvCxnSpPr>
              <a:stCxn id="96" idx="1"/>
              <a:endCxn id="92" idx="2"/>
            </p:cNvCxnSpPr>
            <p:nvPr/>
          </p:nvCxnSpPr>
          <p:spPr>
            <a:xfrm rot="10800000">
              <a:off x="4570920" y="1681560"/>
              <a:ext cx="653760" cy="1283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7" name="_s6169"/>
            <p:cNvCxnSpPr>
              <a:stCxn id="98" idx="3"/>
              <a:endCxn id="92" idx="2"/>
            </p:cNvCxnSpPr>
            <p:nvPr/>
          </p:nvCxnSpPr>
          <p:spPr>
            <a:xfrm flipV="1">
              <a:off x="3918240" y="1681560"/>
              <a:ext cx="653760" cy="1283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2" name="_s6165"/>
            <p:cNvSpPr/>
            <p:nvPr/>
          </p:nvSpPr>
          <p:spPr>
            <a:xfrm>
              <a:off x="2612160" y="404640"/>
              <a:ext cx="3918240" cy="1277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Tahoma"/>
                </a:rPr>
                <a:t>МАГАЗИНЫ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_s6166"/>
            <p:cNvSpPr/>
            <p:nvPr/>
          </p:nvSpPr>
          <p:spPr>
            <a:xfrm>
              <a:off x="0" y="2321280"/>
              <a:ext cx="3918240" cy="1277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УНИВЕРСАЛЬНЫЙ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_s6167"/>
            <p:cNvSpPr/>
            <p:nvPr/>
          </p:nvSpPr>
          <p:spPr>
            <a:xfrm>
              <a:off x="5224680" y="2321280"/>
              <a:ext cx="3918240" cy="1277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СПЕЦИАЛИЗИ-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РОВАННЫЙ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_s6168"/>
            <p:cNvSpPr/>
            <p:nvPr/>
          </p:nvSpPr>
          <p:spPr>
            <a:xfrm>
              <a:off x="0" y="4237920"/>
              <a:ext cx="3918240" cy="1277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ФИРМЕННЫЙ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_s6172"/>
            <p:cNvSpPr/>
            <p:nvPr/>
          </p:nvSpPr>
          <p:spPr>
            <a:xfrm>
              <a:off x="5224680" y="4237920"/>
              <a:ext cx="3918240" cy="1277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САМООБСЛУЖИ-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ВАНИЯ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2400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81880" y="488880"/>
            <a:ext cx="646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УНИВЕРСАЛЬНЫЙ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ТОРГУЕТ ТОВАРА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АЗНОГО НАЗНАЧ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95280" y="4005360"/>
            <a:ext cx="4248000" cy="2754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324000" y="1341360"/>
            <a:ext cx="4319280" cy="2641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4572000" y="4005360"/>
            <a:ext cx="4392720" cy="2728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4572000" y="1341360"/>
            <a:ext cx="4392720" cy="26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476280"/>
            <a:ext cx="868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СПЕЦИАЛИЗИРОВАННЫЙ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ТОРГУЕТ ТОВАРА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ДИНАКОВОГО НАЗНАЧ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11280" y="1628640"/>
            <a:ext cx="3314520" cy="2521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003640" y="1628640"/>
            <a:ext cx="3579840" cy="2521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2771640" y="4221000"/>
            <a:ext cx="3529080" cy="24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476280"/>
            <a:ext cx="868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         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ФИРМЕННЫЙ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ТОРГУЕТ ТОВАРА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ДНОЙ ФИР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195640" y="1341360"/>
            <a:ext cx="4321080" cy="3048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79280" y="3860640"/>
            <a:ext cx="4000680" cy="2778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4427640" y="3860640"/>
            <a:ext cx="403380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476280"/>
            <a:ext cx="868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САМООБСЛУЖИВАНИЯ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ДОСТУПНОСТЬ ТОВАР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ЛЯ ПОКУПАТЕ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3600360" cy="2305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700360" y="2997360"/>
            <a:ext cx="3457440" cy="2447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5651640" y="4405320"/>
            <a:ext cx="3492360" cy="24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476280"/>
            <a:ext cx="868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БИРЖ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СДЕЛКИ ЗАКЛЮЧАЮТСЯ ЧЕРЕЗ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СРЕДНИКОВ-БРОКЕР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ОВАР ПРОДАЁТСЯ БОЛЬШИМ ОПТ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08000" y="1989000"/>
            <a:ext cx="4751280" cy="3816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427640" y="1989000"/>
            <a:ext cx="4562280" cy="38102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17928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476280"/>
            <a:ext cx="868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АУКЦИОН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ТОВАР ПОЛУЧАЕТ ТОТ, КТО БОЛЬШЕ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ЗАПЛАТИ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564000" y="1413000"/>
            <a:ext cx="5333760" cy="3571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08000" y="3429000"/>
            <a:ext cx="4895640" cy="328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476280"/>
            <a:ext cx="868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ЯРМАРК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ПЕРИОДИЧЕСКИ ОРГАНИЗУЕМАЯ 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ПРЕДЕЛЁННОМ МЕСТЕ ТОРГОВЛ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33200" y="1498680"/>
            <a:ext cx="8877600" cy="51703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32400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6T12:38:29Z</dcterms:created>
  <dc:creator>Customer</dc:creator>
  <dc:description/>
  <dc:language>en-US</dc:language>
  <cp:lastModifiedBy>КарМаН</cp:lastModifiedBy>
  <dcterms:modified xsi:type="dcterms:W3CDTF">2012-02-07T11:56:36Z</dcterms:modified>
  <cp:revision>3</cp:revision>
  <dc:subject/>
  <dc:title>Слайд 1</dc:title>
</cp:coreProperties>
</file>